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9C6-94DE-4C07-8A45-577C5B31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7DB-5143-4AC2-BD51-775A999D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766-88BC-4B27-8804-16EAE367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7F4-44F0-49AA-85D6-CECDF8D9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7F5-ACA3-43D8-A20B-52BDED82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224-EA00-4DCC-ADA2-69A52D7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E4A-E351-466A-B353-767DBB1F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84E-737B-4402-AEEA-2889374D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12C-71FA-47FA-A6FA-AE29D83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FB0-FE75-4FE9-B061-04A729E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0D5-26D2-4916-8725-576E8DC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B13-82AC-4783-9C0E-A50E381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15AA-F355-4AC8-895F-45AC1F1E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7.3  Power Functions &amp; Function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 4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perations on Func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for any two functions f(x) &amp; g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h(x)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(x) = f(x) –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h(x) = f(x)*g(x)  OR  f(x)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h(x)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(x)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h(x) = f(g(x))  OR  g(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*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ll real x-values that “make sense” (i.e. can’t have a zero in the denominator, can’t take the even nth root of a negative numb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Let f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Find (a) the sum, (b) the difference, and (c) the domain for 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(x) +g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(x)-g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of (a) all re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of (b) all re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066680" y="3200400"/>
            <a:ext cx="1143000" cy="758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990720" y="4495680"/>
            <a:ext cx="114300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3733920" y="5105520"/>
            <a:ext cx="365760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733920" y="5867280"/>
            <a:ext cx="36576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/Subtraction WS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1219320" y="1752480"/>
          <a:ext cx="7043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043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1125360" y="2630520"/>
          <a:ext cx="7296480" cy="33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5360" y="2630520"/>
                    <a:ext cx="729648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1379520" y="2286000"/>
          <a:ext cx="72691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2286000"/>
                    <a:ext cx="7269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estrictions to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457200" y="1371600"/>
          <a:ext cx="782964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782964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2971800" y="3962520"/>
          <a:ext cx="1523880" cy="20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62520"/>
                    <a:ext cx="1523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Let f(x)=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g(x)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Find (a) the product, (b) the quotient, and (c) the domain for 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712800" y="2859120"/>
          <a:ext cx="12445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859120"/>
                    <a:ext cx="12445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Oval 10"/>
          <p:cNvSpPr/>
          <p:nvPr/>
        </p:nvSpPr>
        <p:spPr>
          <a:xfrm>
            <a:off x="4572000" y="1981080"/>
            <a:ext cx="106668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85800" y="4572000"/>
            <a:ext cx="990720" cy="1371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895480" y="2895480"/>
            <a:ext cx="6248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Domain of (a) all re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0, because you can’t take the square root of a negativ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b) all reals &gt; 0, because you can’t take the square root of a negative number and you can’t have a denominator of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7237440" y="1592280"/>
          <a:ext cx="15271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7440" y="1592280"/>
                    <a:ext cx="1527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5"/>
          <p:cNvSpPr/>
          <p:nvPr/>
        </p:nvSpPr>
        <p:spPr>
          <a:xfrm flipV="1">
            <a:off x="8077320" y="2514600"/>
            <a:ext cx="759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6"/>
          <p:cNvGraphicFramePr/>
          <p:nvPr/>
        </p:nvGraphicFramePr>
        <p:xfrm>
          <a:off x="2133720" y="5872320"/>
          <a:ext cx="80640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872320"/>
                    <a:ext cx="8064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Line 19"/>
          <p:cNvSpPr/>
          <p:nvPr/>
        </p:nvSpPr>
        <p:spPr>
          <a:xfrm flipH="1">
            <a:off x="3124080" y="6172200"/>
            <a:ext cx="144792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5715000" y="2209680"/>
            <a:ext cx="1523880" cy="152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1295280" y="6400800"/>
            <a:ext cx="83844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g(x))  means you take the function g and plug it in for the x-values in the function f, then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f(x))  means you take the function f and plug it in for the x-values in the function g, then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Let 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g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  Find (a) f(g(x)), (b) g(f(x)), (c) f(f(x)), and (d) the domain of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2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819520" y="1600200"/>
                <a:ext cx="1003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6"/>
          <p:cNvSpPr/>
          <p:nvPr/>
        </p:nvSpPr>
        <p:spPr>
          <a:xfrm>
            <a:off x="457200" y="297180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1219320" y="4038480"/>
                <a:ext cx="10666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Oval 9"/>
          <p:cNvSpPr/>
          <p:nvPr/>
        </p:nvSpPr>
        <p:spPr>
          <a:xfrm>
            <a:off x="2666880" y="1600200"/>
            <a:ext cx="129564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990720" y="4038480"/>
            <a:ext cx="1371600" cy="10670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800600" y="167652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2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5410080" y="2819520"/>
                <a:ext cx="621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4"/>
              <p:cNvSpPr txBox="1"/>
              <p:nvPr/>
            </p:nvSpPr>
            <p:spPr>
              <a:xfrm>
                <a:off x="6095880" y="3048120"/>
                <a:ext cx="60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Oval 16"/>
          <p:cNvSpPr/>
          <p:nvPr/>
        </p:nvSpPr>
        <p:spPr>
          <a:xfrm>
            <a:off x="6248520" y="29718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895480" y="3774960"/>
            <a:ext cx="5867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of (a) all reals except x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b) all reals except x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c) all reals except x=0, because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’t have x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9:14:10Z</dcterms:created>
  <dc:creator>julie.geoghagan</dc:creator>
  <dc:description/>
  <dc:language>en-US</dc:language>
  <cp:lastModifiedBy>test</cp:lastModifiedBy>
  <cp:lastPrinted>2014-05-13T14:07:34Z</cp:lastPrinted>
  <dcterms:modified xsi:type="dcterms:W3CDTF">2014-05-13T18:59:47Z</dcterms:modified>
  <cp:revision>23</cp:revision>
  <dc:subject/>
  <dc:title>7.3  Power Functions &amp; Function Operations</dc:title>
</cp:coreProperties>
</file>